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7EF-3A89-43DE-AB4A-1173D510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8F7-C611-4EDA-93D0-ED8F924A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DE1-C8D6-4E22-8FC8-882AED56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6D3-C1D7-4D1A-9120-4D9823FE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C52-B3D8-4E24-AFD4-267D20D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479-C4B3-4CCA-9096-9F18C0B8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E79-26CB-424C-BB52-68CCC53F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1B1-5982-4846-869B-6BE7C1F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A36-19C0-45AA-B39F-72736280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908-10EB-4D99-A502-58067A0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20F-3681-41F8-BAB9-94C92325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58C-5A36-49EF-B3D3-2F24544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F54E-F28F-4F39-9B99-CC2DF61A83E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7600" y="1828800"/>
            <a:ext cx="7286760" cy="116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urner Syndrome - 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 Update</a:t>
            </a:r>
            <a:endParaRPr b="0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616800" y="541980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ul Ho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08280" y="561960"/>
            <a:ext cx="574560" cy="3105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0200" y="3666960"/>
            <a:ext cx="460440" cy="460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0200" y="4127400"/>
            <a:ext cx="576360" cy="216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6760" y="220356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(r)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14120" y="351000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2878200"/>
            <a:ext cx="1279440" cy="1224000"/>
          </a:xfrm>
          <a:custGeom>
            <a:avLst/>
            <a:gdLst/>
            <a:ahLst/>
            <a:rect l="l" t="t" r="r" b="b"/>
            <a:pathLst>
              <a:path w="806" h="771">
                <a:moveTo>
                  <a:pt x="5" y="503"/>
                </a:moveTo>
                <a:cubicBezTo>
                  <a:pt x="10" y="434"/>
                  <a:pt x="74" y="166"/>
                  <a:pt x="165" y="87"/>
                </a:cubicBezTo>
                <a:cubicBezTo>
                  <a:pt x="256" y="8"/>
                  <a:pt x="450" y="0"/>
                  <a:pt x="549" y="30"/>
                </a:cubicBezTo>
                <a:cubicBezTo>
                  <a:pt x="648" y="60"/>
                  <a:pt x="719" y="194"/>
                  <a:pt x="760" y="266"/>
                </a:cubicBezTo>
                <a:cubicBezTo>
                  <a:pt x="801" y="338"/>
                  <a:pt x="806" y="398"/>
                  <a:pt x="798" y="465"/>
                </a:cubicBezTo>
                <a:cubicBezTo>
                  <a:pt x="790" y="532"/>
                  <a:pt x="761" y="621"/>
                  <a:pt x="715" y="670"/>
                </a:cubicBezTo>
                <a:cubicBezTo>
                  <a:pt x="669" y="719"/>
                  <a:pt x="599" y="747"/>
                  <a:pt x="523" y="759"/>
                </a:cubicBezTo>
                <a:cubicBezTo>
                  <a:pt x="447" y="771"/>
                  <a:pt x="330" y="757"/>
                  <a:pt x="261" y="740"/>
                </a:cubicBezTo>
                <a:cubicBezTo>
                  <a:pt x="192" y="723"/>
                  <a:pt x="125" y="680"/>
                  <a:pt x="107" y="657"/>
                </a:cubicBezTo>
                <a:cubicBezTo>
                  <a:pt x="89" y="634"/>
                  <a:pt x="108" y="606"/>
                  <a:pt x="152" y="599"/>
                </a:cubicBezTo>
                <a:cubicBezTo>
                  <a:pt x="196" y="592"/>
                  <a:pt x="302" y="613"/>
                  <a:pt x="370" y="612"/>
                </a:cubicBezTo>
                <a:cubicBezTo>
                  <a:pt x="438" y="611"/>
                  <a:pt x="517" y="613"/>
                  <a:pt x="562" y="593"/>
                </a:cubicBezTo>
                <a:cubicBezTo>
                  <a:pt x="607" y="573"/>
                  <a:pt x="630" y="532"/>
                  <a:pt x="638" y="490"/>
                </a:cubicBezTo>
                <a:cubicBezTo>
                  <a:pt x="646" y="448"/>
                  <a:pt x="624" y="382"/>
                  <a:pt x="613" y="343"/>
                </a:cubicBezTo>
                <a:cubicBezTo>
                  <a:pt x="602" y="304"/>
                  <a:pt x="594" y="282"/>
                  <a:pt x="574" y="254"/>
                </a:cubicBezTo>
                <a:cubicBezTo>
                  <a:pt x="554" y="226"/>
                  <a:pt x="520" y="191"/>
                  <a:pt x="491" y="177"/>
                </a:cubicBezTo>
                <a:cubicBezTo>
                  <a:pt x="462" y="163"/>
                  <a:pt x="435" y="169"/>
                  <a:pt x="402" y="170"/>
                </a:cubicBezTo>
                <a:cubicBezTo>
                  <a:pt x="369" y="171"/>
                  <a:pt x="319" y="167"/>
                  <a:pt x="293" y="183"/>
                </a:cubicBezTo>
                <a:cubicBezTo>
                  <a:pt x="267" y="199"/>
                  <a:pt x="258" y="236"/>
                  <a:pt x="242" y="266"/>
                </a:cubicBezTo>
                <a:cubicBezTo>
                  <a:pt x="226" y="296"/>
                  <a:pt x="209" y="330"/>
                  <a:pt x="197" y="362"/>
                </a:cubicBezTo>
                <a:cubicBezTo>
                  <a:pt x="185" y="394"/>
                  <a:pt x="182" y="435"/>
                  <a:pt x="171" y="458"/>
                </a:cubicBezTo>
                <a:cubicBezTo>
                  <a:pt x="160" y="481"/>
                  <a:pt x="156" y="499"/>
                  <a:pt x="133" y="503"/>
                </a:cubicBezTo>
                <a:cubicBezTo>
                  <a:pt x="110" y="507"/>
                  <a:pt x="0" y="572"/>
                  <a:pt x="5" y="503"/>
                </a:cubicBez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00ff00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22760" y="3666960"/>
            <a:ext cx="458640" cy="460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87880" y="561960"/>
            <a:ext cx="44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Ring Chromos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676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495440"/>
            <a:ext cx="80769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6Xr(X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ing Chromosome – often small and can be a mosaic pattern (ie not in all ce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periods in 33%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enital abns uncomm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ectual dysfunction in those with a small ring chromos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676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4560" y="21146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5X/46X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male karyotype in some cells (46XY). Often taller and there is an increased risk of gonadal tumo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676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inting – what is it and what does it mean for Turner Syndro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" y="1841400"/>
            <a:ext cx="80773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 all possess two alleles for each gene product – one from our mother and one from our f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 most genes the end result is the combination of these two alleles (eg handednes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 some genes, especially those related to growth one allele is permanently turned off. This occurs at or soon after fertilisation and is called im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6760" y="152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X Inactivation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95440"/>
            <a:ext cx="80769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mprinting also occurs on the X chromosome. One half of the X chromosomes are randomly inactivated (ie roughly half maternal and half pater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ever in 45XO there is only one chromosome - this is usually maternal (~70%) but can be paternal (~30%) in ori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es inheriting only one parents chromosome change the phenotype seen in 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6760" y="181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ent of Origin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760" y="1130400"/>
            <a:ext cx="8423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Personality/ learning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– One British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aternal 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poorer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verb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poorer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ociobehaviour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ot substantiated in several subsequent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4080" y="5176800"/>
            <a:ext cx="29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Nature; 37:705-08,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760" y="152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ent of Origin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1760" y="1130400"/>
            <a:ext cx="84232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Growth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– Several studies shown effects on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aternal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maternal and midparental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greater height gain with growth 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aternal 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weakly associated with parents h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poorer final h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4720" y="5888160"/>
            <a:ext cx="56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 3002-1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Genetics and Molecular Research 6(1):1-7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66760" y="152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ent of Origin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760" y="1130400"/>
            <a:ext cx="842328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Hearing</a:t>
            </a:r>
            <a:r>
              <a:rPr b="1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Los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– one recent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aternal 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Strongly associated with an increased risk of hearing impair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f 50 subjects, 23 (46% had sensorineural hearing loss (SNHL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2 of 18 with X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pat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67%) had SNHL versus 11 of 32 X</a:t>
            </a:r>
            <a:r>
              <a:rPr b="0" lang="en-NZ" sz="2800" spc="-1" strike="noStrike" baseline="30000">
                <a:solidFill>
                  <a:srgbClr val="ffffff"/>
                </a:solidFill>
                <a:latin typeface="Arial"/>
              </a:rPr>
              <a:t>mat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(34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 3002-10, 2006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6760" y="152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ent of Origin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1760" y="1130400"/>
            <a:ext cx="842328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Kidneys and e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aternal 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all renal abnormalities occurred in this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aternal 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ocular problems mo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9320" y="4714920"/>
            <a:ext cx="55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2: 846-852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760" y="152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rent of Origin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1760" y="1130400"/>
            <a:ext cx="84232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9933"/>
                </a:solidFill>
                <a:latin typeface="Arial"/>
              </a:rPr>
              <a:t>Metabolism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– two recent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Maternal X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ncreased total abdominal and visceral fat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ccu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more atherogenic lipid pro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49320" y="4714920"/>
            <a:ext cx="55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AMA March 22/29 (12); 295, 1373-74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2: 846-852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6760" y="3049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37348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ryotype = chromosom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</a:rPr>
              <a:t>Phenotype = Physical characteristics – ‘how the person looks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dy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8840" y="917640"/>
            <a:ext cx="8423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ltered in adult TS (42.5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9.7 years) sh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creased fat mass including increased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visceral f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duced muscl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duced exercise capacity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7520" y="3983040"/>
            <a:ext cx="4351320" cy="269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853160" y="4444920"/>
            <a:ext cx="40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European J of Endocrinolog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155: 583-92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01040" y="43736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=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8080" y="4035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=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dy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840" y="917640"/>
            <a:ext cx="84232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6600"/>
                </a:solidFill>
                <a:latin typeface="Arial"/>
              </a:rPr>
              <a:t>Effect of growth horm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creased lean and bone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duced fat m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ffects independent of oestrogen and still apparent &gt; one year after finishing growth hormone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26160" y="4403880"/>
            <a:ext cx="32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 4302-05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00" y="3805200"/>
            <a:ext cx="5402160" cy="297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76080" y="59864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2.8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1680" y="59785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=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1.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dy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840" y="917640"/>
            <a:ext cx="842328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6600"/>
                </a:solidFill>
                <a:latin typeface="Arial"/>
              </a:rPr>
              <a:t>Effect of oestrogen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M or transdermal oestrogen may result in reduced fat mass accum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pray on gel (17</a:t>
            </a:r>
            <a:r>
              <a:rPr b="0" lang="en-N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oestradiol) used in young lean adult TS women (n=9, 23 years) for 1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otal lean mass increased by 1kg compared to oral HRT group with no significant change in fat mass between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9966"/>
                </a:solidFill>
                <a:latin typeface="Arial"/>
              </a:rPr>
              <a:t>The route of administration may be more important than previously considered – watch this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93760" y="621180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Gynecological Endocrinology, 22(10): 590-94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estrogen route and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00" y="917640"/>
            <a:ext cx="842328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estrogen route of administration may affect puberty growth sp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small study examined giving IM oestradiol to 7 TS at either 12-12.9 years or 14-14.9 years. Predicted height in both groups was 150.8 cm. All received growth horm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inal height was 154 cm in the early pubertal induction group and 152.9 cm in the late pubertal inductio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01960" y="6029280"/>
            <a:ext cx="31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, 90:6424-30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estrogen route and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00" y="917640"/>
            <a:ext cx="84232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is equates to a pubertal height g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7.3 cm in the early oestroge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5.0 cm in the late puberta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11.4 cm after oral oestrogen therapy at 12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years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ral oestrogens have major effects on the liver which maty reduce pubertal growth. Transdermal oestrogen now available here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6600"/>
                </a:solidFill>
                <a:latin typeface="Arial"/>
              </a:rPr>
              <a:t>Watch this spa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33720" y="6211800"/>
            <a:ext cx="31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, 90:6424-30.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gnition and 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840" y="917640"/>
            <a:ext cx="8423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on verbal disability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aracteris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deficits in maths and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mpaired performance in visuo-motor task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that have a spatial compo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mpaired adaptation to novel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mpaired social 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ncreased anxiety and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Increased ADHD (18 fold increase in 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6313320"/>
            <a:ext cx="89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. J Ped. Psychology31(9): 945-55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gnition and 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840" y="1579680"/>
            <a:ext cx="8423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rapeutic recommendations (by Harnadek and Rour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5918040"/>
            <a:ext cx="49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 Learning Disability, 27:144-54. 19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gnition and 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9600" y="1486080"/>
            <a:ext cx="84232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) Sex Steroid Effects on the Brai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) Lack of an X chromosome/ genes involved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n neurocognitive development and behaviou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) Imprinting (? r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) Environmental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5480" y="622296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x Steroid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040" y="1344600"/>
            <a:ext cx="842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6600"/>
                </a:solidFill>
                <a:latin typeface="Arial"/>
              </a:rPr>
              <a:t>Oest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mproves adult women’s verbal memory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rticulatory speed and fine motor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estrogen supplementation to young TS girl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s improved verbal memory. Doesn’t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mprove spatial defic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622296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x Steroid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8680" y="947880"/>
            <a:ext cx="84232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6600"/>
                </a:solidFill>
                <a:latin typeface="Arial"/>
              </a:rPr>
              <a:t>An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S women are also androgen de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igher testosterone levels in men and wome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ssociated with better spatial ability,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athematics and problem sol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omen tx with androgens after ovariectomy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improved memory, complex information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rocessing and logical reas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xandrolone tx of TS girls improved working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emory after 2 years of 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5480" y="622296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708280" y="561960"/>
            <a:ext cx="1495080" cy="5732280"/>
            <a:chOff x="2708280" y="561960"/>
            <a:chExt cx="1495080" cy="5732280"/>
          </a:xfrm>
        </p:grpSpPr>
        <p:sp>
          <p:nvSpPr>
            <p:cNvPr id="46" name=""/>
            <p:cNvSpPr/>
            <p:nvPr/>
          </p:nvSpPr>
          <p:spPr>
            <a:xfrm>
              <a:off x="2708280" y="561960"/>
              <a:ext cx="574560" cy="3105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28080" y="561960"/>
              <a:ext cx="575280" cy="3105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70560" y="3667680"/>
              <a:ext cx="459360" cy="460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21320" y="3667680"/>
              <a:ext cx="460080" cy="4600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0560" y="4128120"/>
              <a:ext cx="574560" cy="216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8080" y="4128120"/>
              <a:ext cx="575280" cy="2166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292280" y="4518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1480" y="1654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82120" y="34480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127400"/>
            <a:ext cx="528480" cy="2167200"/>
          </a:xfrm>
          <a:custGeom>
            <a:avLst/>
            <a:gdLst>
              <a:gd name="textAreaLeft" fmla="*/ 0 w 528480"/>
              <a:gd name="textAreaRight" fmla="*/ 190800 w 528480"/>
              <a:gd name="textAreaTop" fmla="*/ 56520 h 2167200"/>
              <a:gd name="textAreaBottom" fmla="*/ 2110680 h 216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32240" y="4381560"/>
            <a:ext cx="375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9933"/>
                </a:solidFill>
                <a:latin typeface="Arial"/>
              </a:rPr>
              <a:t>Most TS features occur when this area is mi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8800" y="56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84640" y="5619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ploinsufficiency (one chromoso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9360" y="1393920"/>
            <a:ext cx="84232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ost of the genes involved in neurocognitive and behaviour involve areas of the X chromosome that don’t get inactivated and there are usually two copies of the gene avail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refore in TS there is a reduction in the gene dose and possible developmental; consequences as a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5480" y="622296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6760" y="254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8960" y="1401840"/>
            <a:ext cx="842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hyness, social anxiety and impaired self esteem reduced equally in adults with TS (n=100, age 34.7 years) and women with premature ovarian failure (n=100, 30.9 years) and healthy controls (n=35, 35.8 yea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95480" y="622296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5: 47-56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6760" y="2541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f reported psychosocial function and  body image per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9600" y="1512720"/>
            <a:ext cx="84232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30 TS women (age 22.1 years) matched to 44 non TS women (20.5 yea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No difference on most scores including all behavioural and emotional proble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y perceived themselves as socially less compe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MI was related to the appraisal 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90560" y="594828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6: 277: 277-84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20680" y="887400"/>
            <a:ext cx="7313760" cy="557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66760" y="122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f percep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1480" y="6416640"/>
            <a:ext cx="61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Hormone Research, 66: 277: 277-84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5000" y="254160"/>
            <a:ext cx="887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f-Esteem and social adjustment – influence of pubertal management and sex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9600" y="1917720"/>
            <a:ext cx="8423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Arial"/>
              </a:rPr>
              <a:t>Fren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566 young adult TS women (18.3-31.2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w self esteem associat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hearing impair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- limited sexu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7120" y="58975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2972-79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5000" y="254160"/>
            <a:ext cx="887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lf-Esteem and Social Adjustment – influence of pubertal management and sex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9600" y="1917720"/>
            <a:ext cx="842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Low social adjustment associated with lower socio economic class and an absence of sexu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 at pubertal development associated with age at first sexual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6600"/>
                </a:solidFill>
                <a:latin typeface="Arial"/>
              </a:rPr>
              <a:t>Delayed pubertal induction had a long lasting effect on sex life.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97120" y="58975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2972-79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82560" y="789120"/>
            <a:ext cx="584856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5000" y="254160"/>
            <a:ext cx="88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 – Incidence, diagnostic delay and mort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960" y="1469880"/>
            <a:ext cx="84232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anish Cytogenetic register – 781 TS between 1970-200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9966"/>
                </a:solidFill>
                <a:latin typeface="Arial"/>
              </a:rPr>
              <a:t>Incidence: 50/100,000 (1:2000 female birt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re was a delay in diagnosis with the mean age being 15.1 years! Although this is historical many patients still seem to be missed until their 2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re is a decreasing age at diagnosis over the 30 years study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97120" y="629460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3897-02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3440" y="441360"/>
            <a:ext cx="8771040" cy="5683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919240" y="626436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3897-02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5000" y="254160"/>
            <a:ext cx="88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 – mort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8200" y="1357200"/>
            <a:ext cx="84232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verall mortality was increased compared to the general population (standardised mortality rate (SMR) 2.86 ~ almost 3 times the risk of dy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re was a karyotype risk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XO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MR=4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soXq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MR= 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ther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karyotypes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MR = 2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97120" y="58975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3897-02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16280" y="561960"/>
            <a:ext cx="574560" cy="3105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37160" y="561960"/>
            <a:ext cx="574560" cy="3105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78200" y="3666960"/>
            <a:ext cx="460440" cy="460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30760" y="3666960"/>
            <a:ext cx="458640" cy="460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8200" y="4127400"/>
            <a:ext cx="576360" cy="2167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37160" y="4127400"/>
            <a:ext cx="574560" cy="216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00640" y="4518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89480" y="1654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90120" y="34480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5520" y="131436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00"/>
                </a:solidFill>
                <a:latin typeface="Arial"/>
              </a:rPr>
              <a:t>X Inac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6800" y="58374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92640" y="58374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2280" y="5837400"/>
            <a:ext cx="306360" cy="4572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78200" y="934920"/>
            <a:ext cx="422280" cy="3794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30360" y="209520"/>
            <a:ext cx="795492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5000" y="254160"/>
            <a:ext cx="88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 – mort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8200" y="1357200"/>
            <a:ext cx="84232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mmonest causes of d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ngenital abnormalities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(probably mainly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ardi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Metabolic/ endocrine (eg inadequate H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6600"/>
                </a:solidFill>
                <a:latin typeface="Arial"/>
              </a:rPr>
              <a:t>DIABETES MELLITUS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was a contributing cause of death in 22% of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97120" y="589752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66ffff"/>
                </a:solidFill>
                <a:latin typeface="Arial"/>
              </a:rPr>
              <a:t>JCEM 91:3897-02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9880" y="1843200"/>
            <a:ext cx="80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29160" y="561960"/>
            <a:ext cx="574560" cy="3105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22760" y="3666960"/>
            <a:ext cx="458640" cy="460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29160" y="4127400"/>
            <a:ext cx="574560" cy="2167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2280" y="4518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81480" y="1654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82120" y="34480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1240" y="561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45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47800" y="1425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0080" y="1425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aterna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676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752480"/>
            <a:ext cx="8076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some correlations but karyotypes are not predictive of what any particular girl with TS will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5X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st common and severest phenotyp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highest incidence of cardiac, ren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normalities and other dysmorphic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76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495440"/>
            <a:ext cx="80769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5XO/46X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me cells have normal XX and some have XO (often called a mosaic pattern as two distinct cell lin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 frequency of each cell line can vary from tissue to tissue- this can change the phen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the least severe phenotyp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mean height and spontaneous puberty in up to 4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85960" y="101520"/>
            <a:ext cx="574920" cy="3105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06840" y="101520"/>
            <a:ext cx="574560" cy="3105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92280" y="4518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1480" y="1654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1560" y="31082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ntro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8800" y="56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m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84640" y="56196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pa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606840"/>
            <a:ext cx="574920" cy="3105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6840" y="3606840"/>
            <a:ext cx="574560" cy="3105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7880" y="3206880"/>
            <a:ext cx="460440" cy="460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00440" y="3206880"/>
            <a:ext cx="458640" cy="460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3960" y="1263600"/>
            <a:ext cx="12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Iso 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676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aryotype versus Phenotype 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rner Syndr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49544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6Xi(Xq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d risk of autoimmunity es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yroid and inflammatory bowel disease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fness. Structural problems un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1:14:08Z</dcterms:created>
  <dc:creator>user </dc:creator>
  <dc:description/>
  <dc:language>en-US</dc:language>
  <cp:lastModifiedBy>Staff</cp:lastModifiedBy>
  <dcterms:modified xsi:type="dcterms:W3CDTF">2007-07-16T21:30:01Z</dcterms:modified>
  <cp:revision>130</cp:revision>
  <dc:subject/>
  <dc:title>PowerPoint Presentation</dc:title>
</cp:coreProperties>
</file>